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media/image22.png" ContentType="image/png"/>
  <Override PartName="/ppt/media/image21.png" ContentType="image/png"/>
  <Override PartName="/ppt/media/image19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8.png" ContentType="image/png"/>
  <Override PartName="/ppt/media/image29.wmf" ContentType="image/x-wmf"/>
  <Override PartName="/ppt/media/image6.wmf" ContentType="image/x-wmf"/>
  <Override PartName="/ppt/media/image8.jpeg" ContentType="image/jpeg"/>
  <Override PartName="/ppt/media/image13.wmf" ContentType="image/x-wmf"/>
  <Override PartName="/ppt/media/image10.jpeg" ContentType="image/jpeg"/>
  <Override PartName="/ppt/media/image9.png" ContentType="image/png"/>
  <Override PartName="/ppt/media/image12.png" ContentType="image/png"/>
  <Override PartName="/ppt/media/image23.wmf" ContentType="image/x-wmf"/>
  <Override PartName="/ppt/media/image11.jpeg" ContentType="image/jpeg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7.jpeg" ContentType="image/jpeg"/>
  <Override PartName="/ppt/media/image31.wmf" ContentType="image/x-wmf"/>
  <Override PartName="/ppt/media/image1.wmf" ContentType="image/x-wmf"/>
  <Override PartName="/ppt/media/image24.wmf" ContentType="image/x-wmf"/>
  <Override PartName="/ppt/media/image14.jpeg" ContentType="image/jpeg"/>
  <Override PartName="/ppt/media/image15.png" ContentType="image/png"/>
  <Override PartName="/ppt/media/image16.png" ContentType="image/png"/>
  <Override PartName="/ppt/media/image20.wmf" ContentType="image/x-wmf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33FA-9C8C-49A4-AF92-B25151C6B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C8AD-46A7-4E74-88B8-D9C9CCCD3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A448-66A6-4AA4-AAD9-FC30E62D7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tshållare för bildnummer 3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C9F088-7638-4477-8A2D-8FB46B336738}" type="slidenum">
              <a:rPr b="0" lang="sv-S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C592-9310-4EF2-B354-404512108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CE210D-D435-476F-84A3-55FE8BF40B68}" type="slidenum">
              <a:rPr b="0" lang="sv-S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54EA-0DFF-44F5-9C09-D1486FBE3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B78B-F53A-4D12-B5AD-268867216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ED91-FE3D-4AA2-AD51-F5AF422C2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DE57-0CD9-4C7D-9729-90A970632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5DDB-C11A-4490-9338-EAF3C831A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2ED5-7618-4A6A-BF10-30E7E11E3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1277-534A-4C8B-937F-44FF0B308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B1DC-3598-4B9C-8513-4CAEB0B42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63C9-3AF6-4B84-8108-CC6AABE89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5580-10EF-4FFA-B0FA-022675901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000080" y="687240"/>
            <a:ext cx="48592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484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B5EA-CBD3-401E-BB98-C79E907D4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F4CD-982C-4DAB-8696-58931403C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B489-0DD4-4EFF-9E93-7173126EA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73EE-B7B1-4BA8-AD2C-5FBF260BE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89E9-EF4E-4148-9BF4-315159364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29E3-790E-484D-82B5-37E43B41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823D-AA0D-48E3-8A63-0B8614CC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F652-036A-4252-AC57-823CF3F5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7C2D-9974-4071-9861-1CAFD3D8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F7FB-FED0-4F92-B62D-3A68E7CA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3123-58C3-4EAE-AD57-CE21DB26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2676-A96F-44D9-8698-912ED20D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49D-C2A7-4F9F-8224-40833339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89D6-E2B8-4E57-94D2-34B68F52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4CAE-BF02-41E8-A453-F4C11B90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D5D-8B3B-4B6E-975E-0B977955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55F8-B0B9-48D0-A1EE-E5E6BB09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442B-358F-46BD-B374-AAF39D922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PLANIFICACIÓN Y GESTIÓN SISTÉMICA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: Sostenibilidad/Efectivida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z – interna y ex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645000"/>
            <a:ext cx="8748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Actúa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En las Causas y 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las consecu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arlow Solid Italic"/>
                <a:ea typeface="Arial"/>
              </a:rPr>
              <a:t>rodrigoschoeller.blogspot.com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3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737560" cy="60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-19080" y="209520"/>
          <a:ext cx="97059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209520"/>
                    <a:ext cx="97059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380880" y="473400"/>
            <a:ext cx="8458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 REFLEJA LA FORMA SISTÉMICA DE LA ACCIÓ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1- El cumplimiento de las directrices nacionales e internacional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ferencia de las Naciones Unidas sobre Población y Desarrollo - El Cair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a declaración de Estambul sobre los asentamientos human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8° Objetivo de Desarrollo del Mileni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rear una Asociación Mundial para el Desarrol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Fundación Nacional para la Calidad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Fundamientos de la  Excelencia;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o resultado de esto y para generar disminuición em el riesgo de las inversione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28600" y="460440"/>
            <a:ext cx="8610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2- El acceso a los recursos humanos y dine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IS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Índice de Sustentabilidade Empresarial da Bovespa (Bolsa de Valores de São Paul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JS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w Jones Sustentability Index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ágrafo 50 da Agenda Habitat para Municí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via financiamentos da CAIX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 hecho, la Planificación y la Gestión Sistémic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 el foco primordial de la famili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y con el uso d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icador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crea, com la transparenc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na </a:t>
            </a: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ronda de fines públic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paz de desarrollar una consciencia de los derechos y responsabilidad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porcionando,  </a:t>
            </a:r>
            <a:r>
              <a:rPr b="1" lang="pt-BR" sz="2400" spc="-1" strike="noStrike" u="sng">
                <a:solidFill>
                  <a:srgbClr val="0066ff"/>
                </a:solidFill>
                <a:uFillTx/>
                <a:latin typeface="Times New Roman"/>
              </a:rPr>
              <a:t>Paz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interior y exterior, exterior a la </a:t>
            </a:r>
            <a:r>
              <a:rPr b="1" lang="pt-BR" sz="2400" spc="-1" strike="noStrike" u="sng">
                <a:solidFill>
                  <a:srgbClr val="0066ff"/>
                </a:solidFill>
                <a:uFillTx/>
                <a:latin typeface="Times New Roman"/>
              </a:rPr>
              <a:t>eficaci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y la </a:t>
            </a:r>
            <a:r>
              <a:rPr b="1" lang="pt-BR" sz="2400" spc="-1" strike="noStrike" u="sng">
                <a:solidFill>
                  <a:srgbClr val="0066ff"/>
                </a:solidFill>
                <a:uFillTx/>
                <a:latin typeface="Times New Roman"/>
              </a:rPr>
              <a:t>sostenibilidad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839080" y="-58892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ff"/>
                </a:solidFill>
                <a:latin typeface="Harlow Solid Italic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Harlow Solid Italic"/>
              </a:rPr>
              <a:t>En este sentido, el primer parágrafo 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Harlow Solid Italic"/>
              </a:rPr>
              <a:t>Programa </a:t>
            </a:r>
            <a:r>
              <a:rPr b="1" i="1" lang="pt-BR" sz="3200" spc="-1" strike="noStrike">
                <a:solidFill>
                  <a:srgbClr val="333399"/>
                </a:solidFill>
                <a:latin typeface="Harlow Solid Italic"/>
              </a:rPr>
              <a:t>Hábitat</a:t>
            </a:r>
            <a:r>
              <a:rPr b="1" i="1" lang="pt-BR" sz="3200" spc="-1" strike="noStrike">
                <a:solidFill>
                  <a:srgbClr val="000000"/>
                </a:solidFill>
                <a:latin typeface="Harlow Solid Italic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Harlow Solid Italic"/>
              </a:rPr>
              <a:t>para los Municip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“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...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Reina la sensación de que existen grandes oportunidades y la esperanza de que es posible construir un mundo nuevo en el que el desarrollo económico, el desarrollo social y la protección del medio ambiente, en cuanto componentes </a:t>
            </a: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interdependientes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y sinérgicos del desarrollo sostenible, pueden lograrse </a:t>
            </a: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mediante la solidaridad y la cooperación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dentro de los países y entre éstos, y mediante el establecimiento de asociaciones eficaces a todos los niveles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pt-BR" sz="2400" spc="-1" strike="noStrike">
                <a:solidFill>
                  <a:srgbClr val="0066ff"/>
                </a:solidFill>
                <a:latin typeface="Harlow Solid Italic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623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URB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System of Indicators part"/>
          <p:cNvPicPr/>
          <p:nvPr/>
        </p:nvPicPr>
        <p:blipFill>
          <a:blip r:embed="rId1"/>
          <a:stretch/>
        </p:blipFill>
        <p:spPr>
          <a:xfrm>
            <a:off x="0" y="550800"/>
            <a:ext cx="868680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revistaaaa"/>
          <p:cNvPicPr/>
          <p:nvPr/>
        </p:nvPicPr>
        <p:blipFill>
          <a:blip r:embed="rId1"/>
          <a:stretch/>
        </p:blipFill>
        <p:spPr>
          <a:xfrm>
            <a:off x="1305000" y="1673280"/>
            <a:ext cx="65340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www.smuf.org/HUillustration.gif"/>
          <p:cNvPicPr/>
          <p:nvPr/>
        </p:nvPicPr>
        <p:blipFill>
          <a:blip r:embed="rId1"/>
          <a:stretch/>
        </p:blipFill>
        <p:spPr>
          <a:xfrm>
            <a:off x="2881440" y="1496880"/>
            <a:ext cx="5311800" cy="45738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Hållbar utveck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tshållare för datum 3"/>
          <p:cNvSpPr/>
          <p:nvPr/>
        </p:nvSpPr>
        <p:spPr>
          <a:xfrm>
            <a:off x="4572000" y="88920"/>
            <a:ext cx="42926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ource:</a:t>
            </a:r>
            <a:r>
              <a:rPr b="0" lang="sv-SE" sz="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egionplane-och trafikkontoret – Martin Ängeby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08-10-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tshållare för bildnummer 4"/>
          <p:cNvSpPr/>
          <p:nvPr/>
        </p:nvSpPr>
        <p:spPr>
          <a:xfrm>
            <a:off x="6705720" y="303120"/>
            <a:ext cx="21589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21CA-EB15-4DE9-8F73-30788B6700B9}" type="slidenum">
              <a:rPr b="0" lang="sv-SE" sz="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tshållare för datum 3"/>
          <p:cNvSpPr/>
          <p:nvPr/>
        </p:nvSpPr>
        <p:spPr>
          <a:xfrm>
            <a:off x="4643280" y="88920"/>
            <a:ext cx="40770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Source: Regionplane-och trafikkontoret – Martin Ängeby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E292-3756-4970-8479-BEB9DE4719A4}" type="datetime">
              <a:rPr b="0" lang="sv-SE" sz="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6-07-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tshållare för bildnummer 5"/>
          <p:cNvSpPr/>
          <p:nvPr/>
        </p:nvSpPr>
        <p:spPr>
          <a:xfrm>
            <a:off x="6705720" y="303120"/>
            <a:ext cx="21589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hart001"/>
          <p:cNvPicPr/>
          <p:nvPr/>
        </p:nvPicPr>
        <p:blipFill>
          <a:blip r:embed="rId1"/>
          <a:stretch/>
        </p:blipFill>
        <p:spPr>
          <a:xfrm>
            <a:off x="5126040" y="3789360"/>
            <a:ext cx="2149560" cy="3068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400" spc="-1" strike="noStrike">
                <a:solidFill>
                  <a:srgbClr val="000000"/>
                </a:solidFill>
                <a:latin typeface="Arial"/>
              </a:rPr>
              <a:t>Från problem till syst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kretsloppet"/>
          <p:cNvPicPr/>
          <p:nvPr/>
        </p:nvPicPr>
        <p:blipFill>
          <a:blip r:embed="rId2"/>
          <a:stretch/>
        </p:blipFill>
        <p:spPr>
          <a:xfrm>
            <a:off x="179280" y="3936960"/>
            <a:ext cx="4321440" cy="2921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kretslopp"/>
          <p:cNvPicPr/>
          <p:nvPr/>
        </p:nvPicPr>
        <p:blipFill>
          <a:blip r:embed="rId3"/>
          <a:stretch/>
        </p:blipFill>
        <p:spPr>
          <a:xfrm>
            <a:off x="0" y="1916280"/>
            <a:ext cx="2343240" cy="216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MCj00831850000[1]"/>
          <p:cNvPicPr/>
          <p:nvPr/>
        </p:nvPicPr>
        <p:blipFill>
          <a:blip r:embed="rId4"/>
          <a:stretch/>
        </p:blipFill>
        <p:spPr>
          <a:xfrm>
            <a:off x="3708360" y="2205000"/>
            <a:ext cx="1819440" cy="1801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MPj04009480000[1]"/>
          <p:cNvPicPr/>
          <p:nvPr/>
        </p:nvPicPr>
        <p:blipFill>
          <a:blip r:embed="rId5"/>
          <a:stretch/>
        </p:blipFill>
        <p:spPr>
          <a:xfrm>
            <a:off x="6659640" y="1413000"/>
            <a:ext cx="172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-19080" y="209520"/>
          <a:ext cx="97059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209520"/>
                    <a:ext cx="97059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60360" y="692280"/>
            <a:ext cx="828036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738360" indent="-281160" algn="just">
              <a:lnSpc>
                <a:spcPct val="101000"/>
              </a:lnSpc>
              <a:spcBef>
                <a:spcPts val="700"/>
              </a:spcBef>
              <a:tabLst>
                <a:tab algn="l" pos="0"/>
                <a:tab algn="l" pos="738360"/>
                <a:tab algn="l" pos="1305000"/>
                <a:tab algn="l" pos="2219400"/>
                <a:tab algn="l" pos="3133800"/>
                <a:tab algn="l" pos="4048200"/>
                <a:tab algn="l" pos="4962600"/>
                <a:tab algn="l" pos="5877000"/>
                <a:tab algn="l" pos="6791400"/>
                <a:tab algn="l" pos="7705800"/>
                <a:tab algn="l" pos="8620200"/>
                <a:tab algn="l" pos="9534600"/>
                <a:tab algn="l" pos="10449000"/>
                <a:tab algn="l" pos="10726560"/>
                <a:tab algn="l" pos="11175840"/>
                <a:tab algn="l" pos="111790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¿Cuáles son las causas reales de la creciente falta de respeto a la naturaleza y a la dignidad de la persona humana, la propia y la de los demá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1000"/>
              </a:lnSpc>
              <a:spcBef>
                <a:spcPts val="700"/>
              </a:spcBef>
              <a:tabLst>
                <a:tab algn="l" pos="0"/>
                <a:tab algn="l" pos="738360"/>
                <a:tab algn="l" pos="1305000"/>
                <a:tab algn="l" pos="2219400"/>
                <a:tab algn="l" pos="3133800"/>
                <a:tab algn="l" pos="4048200"/>
                <a:tab algn="l" pos="4962600"/>
                <a:tab algn="l" pos="5877000"/>
                <a:tab algn="l" pos="6791400"/>
                <a:tab algn="l" pos="7705800"/>
                <a:tab algn="l" pos="8620200"/>
                <a:tab algn="l" pos="9534600"/>
                <a:tab algn="l" pos="10449000"/>
                <a:tab algn="l" pos="10726560"/>
                <a:tab algn="l" pos="11175840"/>
                <a:tab algn="l" pos="11179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GESTIÓN DEL FISCAL EM LA PLANIFICACIÓN Y GESTION SISTÉMICA</a:t>
            </a:r>
            <a:br>
              <a:rPr sz="24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CONEXIONE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SC – Primer caso = Traducción de la visión y estrategia da Visão e da Estraté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Primeiro Perspectiva: Client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447920" y="4114800"/>
            <a:ext cx="731520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Object 5"/>
          <p:cNvGraphicFramePr/>
          <p:nvPr/>
        </p:nvGraphicFramePr>
        <p:xfrm>
          <a:off x="304920" y="1828800"/>
          <a:ext cx="8381880" cy="22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828800"/>
                    <a:ext cx="83818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MP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SC - Segundo Perspectiva  = Accionista/Financiera X Recurs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257800" y="2514600"/>
            <a:ext cx="3505320" cy="259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5"/>
          <p:cNvGraphicFramePr/>
          <p:nvPr/>
        </p:nvGraphicFramePr>
        <p:xfrm>
          <a:off x="762120" y="1447920"/>
          <a:ext cx="4190760" cy="32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447920"/>
                    <a:ext cx="41907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286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GEM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bajo em redes de cooperación com los sectores público, privado y tercer s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BSC - Terceiro Perspectiva = Proceso 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rganización Interna)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533520" y="609480"/>
          <a:ext cx="9296280" cy="221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92962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4"/>
          <p:cNvGraphicFramePr/>
          <p:nvPr/>
        </p:nvGraphicFramePr>
        <p:xfrm>
          <a:off x="533520" y="3733920"/>
          <a:ext cx="7735680" cy="2438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733920"/>
                    <a:ext cx="77356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145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G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BSC - cuarta perspectiva - Aprendizaje y Crecimiento/Inov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981080" y="4038480"/>
          <a:ext cx="655344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038480"/>
                    <a:ext cx="65534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5"/>
          <p:cNvGraphicFramePr/>
          <p:nvPr/>
        </p:nvGraphicFramePr>
        <p:xfrm>
          <a:off x="533520" y="990720"/>
          <a:ext cx="777240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990720"/>
                    <a:ext cx="77724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l fiscal ha puesto em ejecución: </a:t>
            </a:r>
            <a:br>
              <a:rPr sz="2800"/>
            </a:br>
            <a:br>
              <a:rPr sz="2800"/>
            </a:b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BJETIVOS-DESCRIPCIÓN DE LA FINALIDAD - IDICADORES- UNIDAD DE MEDIDA-PERIODICIDA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825480" y="2209680"/>
          <a:ext cx="749304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2209680"/>
                    <a:ext cx="74930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PERMITE COM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e hemos hecho toda parte de uma gran famili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Harlow Solid Italic"/>
              </a:rPr>
              <a:t>que la </a:t>
            </a:r>
            <a:r>
              <a:rPr b="1" lang="pt-BR" sz="3200" spc="-1" strike="noStrike">
                <a:solidFill>
                  <a:srgbClr val="000000"/>
                </a:solidFill>
                <a:latin typeface="Harlow Solid Italic"/>
              </a:rPr>
              <a:t>Gestión es la </a:t>
            </a:r>
            <a:r>
              <a:rPr b="1" lang="pt-BR" sz="2800" spc="-1" strike="noStrike" u="sng">
                <a:solidFill>
                  <a:srgbClr val="0066ff"/>
                </a:solidFill>
                <a:uFillTx/>
                <a:latin typeface="Wide Latin"/>
              </a:rPr>
              <a:t>INTEGRACIÓN</a:t>
            </a:r>
            <a:r>
              <a:rPr b="1" lang="pt-BR" sz="2800" spc="-1" strike="noStrike">
                <a:solidFill>
                  <a:srgbClr val="0066ff"/>
                </a:solidFill>
                <a:latin typeface="Harlow Solid Italic"/>
              </a:rPr>
              <a:t>!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103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0"/>
          <p:cNvGraphicFramePr/>
          <p:nvPr/>
        </p:nvGraphicFramePr>
        <p:xfrm>
          <a:off x="0" y="528480"/>
          <a:ext cx="9723600" cy="56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28480"/>
                    <a:ext cx="9723600" cy="56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102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720720" y="549360"/>
            <a:ext cx="8226360" cy="57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738360" indent="-2811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ce que las causas son multifactoriales (sistémicas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deci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249"/>
              </a:spcBef>
              <a:tabLst>
                <a:tab algn="l" pos="0"/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 el resultado de </a:t>
            </a:r>
            <a:r>
              <a:rPr b="1" i="1" lang="en-GB" sz="3600" spc="-1" strike="noStrike" u="sng">
                <a:solidFill>
                  <a:srgbClr val="0066ff"/>
                </a:solidFill>
                <a:uFillTx/>
                <a:latin typeface="Arial"/>
                <a:ea typeface="ＭＳ Ｐゴシック"/>
              </a:rPr>
              <a:t>RELACIONES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terdependientes e interrelacionadas entre diversos componentes del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IT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3"/>
          <p:cNvGraphicFramePr/>
          <p:nvPr/>
        </p:nvGraphicFramePr>
        <p:xfrm>
          <a:off x="0" y="228600"/>
          <a:ext cx="9144000" cy="682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82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2"/>
          <p:cNvGraphicFramePr/>
          <p:nvPr/>
        </p:nvGraphicFramePr>
        <p:xfrm>
          <a:off x="2297160" y="1727280"/>
          <a:ext cx="4549680" cy="3403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1727280"/>
                    <a:ext cx="454968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4"/>
          <p:cNvGraphicFramePr/>
          <p:nvPr/>
        </p:nvGraphicFramePr>
        <p:xfrm>
          <a:off x="2057400" y="0"/>
          <a:ext cx="5459400" cy="7010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0"/>
                    <a:ext cx="545940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3"/>
          <p:cNvGraphicFramePr/>
          <p:nvPr/>
        </p:nvGraphicFramePr>
        <p:xfrm>
          <a:off x="914400" y="0"/>
          <a:ext cx="75438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7543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3628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Gestión Ética y Responsable de las Empresas en la Planificación y Gestión sistémica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te la creciente insostenibilidad que afecta a todos los países, se acentúa el debate sobre la necesidad de impulsar el desarrollo sostenible y, más  profundamente, el desarrollo armonioso y sostenible. En este contexto, el Foro Urbano Mundial 4, que se celebrará en Nanjing, China, con el tema "La urbanización armónica", subraya la importancia del sector privado para contribuir, de forma responsable y ética, con el sector público y la sociedad civil en la gestión de los recursos ambientales y relacionales cada vez más esca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sicólogo Yves de La Taille, autor de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Vergonha – A Ferida Mor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explica que la pregunt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étic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ice: "</a:t>
            </a: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¿Qué vida quiero vivir?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mientras que l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mor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 se cuestiona: "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¿cómo debo actuar?"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implica otra: "</a:t>
            </a:r>
            <a:r>
              <a:rPr b="1" lang="es-ES" sz="2000" spc="-1" strike="noStrike" u="sng">
                <a:solidFill>
                  <a:srgbClr val="0033cc"/>
                </a:solidFill>
                <a:uFillTx/>
                <a:latin typeface="Arial"/>
              </a:rPr>
              <a:t>¿Quién quiero ser?</a:t>
            </a: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"</a:t>
            </a:r>
            <a:r>
              <a:rPr b="0" lang="es-ES" sz="2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lo tanto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23640" y="404280"/>
            <a:ext cx="8226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¿Cuál es el sentido de la </a:t>
            </a:r>
            <a:r>
              <a:rPr b="1" i="1" lang="en-GB" sz="3200" spc="-1" strike="noStrike">
                <a:solidFill>
                  <a:srgbClr val="333399"/>
                </a:solidFill>
                <a:latin typeface="Times New Roman"/>
              </a:rPr>
              <a:t>vid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br>
              <a:rPr sz="3200"/>
            </a:b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¿Cuál es nuestra misión comú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arece que lo más importante en la vida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La calidad de las Relaciones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que establecemos con nuestra conciencia y con los seres vivos y objetos con los que interactua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Más aún, parece que para conseguir la </a:t>
            </a:r>
            <a:r>
              <a:rPr b="1" i="1" lang="en-GB" sz="2800" spc="-1" strike="noStrike">
                <a:solidFill>
                  <a:srgbClr val="ff3300"/>
                </a:solidFill>
                <a:latin typeface="Times New Roman"/>
              </a:rPr>
              <a:t>sostenibilidad, la efectividad y la calidad de </a:t>
            </a:r>
            <a:r>
              <a:rPr b="1" i="1" lang="en-GB" sz="2800" spc="-1" strike="noStrike">
                <a:solidFill>
                  <a:srgbClr val="0066ff"/>
                </a:solidFill>
                <a:latin typeface="Times New Roman"/>
              </a:rPr>
              <a:t>vida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es necessário que percibamos esto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"/>
          <p:cNvSpPr/>
          <p:nvPr/>
        </p:nvSpPr>
        <p:spPr>
          <a:xfrm>
            <a:off x="4376880" y="1303200"/>
            <a:ext cx="63360" cy="782640"/>
          </a:xfrm>
          <a:prstGeom prst="downArrow">
            <a:avLst>
              <a:gd name="adj1" fmla="val 50000"/>
              <a:gd name="adj2" fmla="val 3088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4114800" y="1957320"/>
            <a:ext cx="457200" cy="1042920"/>
          </a:xfrm>
          <a:prstGeom prst="downArrow">
            <a:avLst>
              <a:gd name="adj1" fmla="val 50000"/>
              <a:gd name="adj2" fmla="val 5702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60360" y="692280"/>
            <a:ext cx="8640720" cy="63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738360" indent="-281160" algn="ctr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¿Cómo remediarla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1000"/>
              </a:lnSpc>
              <a:spcBef>
                <a:spcPts val="499"/>
              </a:spcBef>
              <a:tabLst>
                <a:tab algn="l" pos="0"/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 algn="ctr">
              <a:lnSpc>
                <a:spcPct val="91000"/>
              </a:lnSpc>
              <a:spcBef>
                <a:spcPts val="649"/>
              </a:spcBef>
              <a:tabLst>
                <a:tab algn="l" pos="0"/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PLANIFICACIÓN Y GESTIÓN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ISTÉM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 algn="ctr">
              <a:lnSpc>
                <a:spcPct val="91000"/>
              </a:lnSpc>
              <a:spcBef>
                <a:spcPts val="649"/>
              </a:spcBef>
              <a:tabLst>
                <a:tab algn="l" pos="0"/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 algn="ctr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 hacen posibl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a visión y l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ció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recursos multidisciplinarios, intersectoriales y transdisciplinarios, cuyo rendimiento puede afectar, positiva o negativamente, la sociedad en su conju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 algn="ctr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5"/>
          <p:cNvGraphicFramePr/>
          <p:nvPr/>
        </p:nvGraphicFramePr>
        <p:xfrm>
          <a:off x="223920" y="149400"/>
          <a:ext cx="8547120" cy="61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149400"/>
                    <a:ext cx="8547120" cy="61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-19080" y="209520"/>
          <a:ext cx="97059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209520"/>
                    <a:ext cx="97059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4" descr=""/>
          <p:cNvPicPr/>
          <p:nvPr/>
        </p:nvPicPr>
        <p:blipFill>
          <a:blip r:embed="rId1"/>
          <a:stretch/>
        </p:blipFill>
        <p:spPr>
          <a:xfrm>
            <a:off x="77760" y="1395360"/>
            <a:ext cx="898848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3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9917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4" descr=""/>
          <p:cNvPicPr/>
          <p:nvPr/>
        </p:nvPicPr>
        <p:blipFill>
          <a:blip r:embed="rId1"/>
          <a:stretch/>
        </p:blipFill>
        <p:spPr>
          <a:xfrm>
            <a:off x="136440" y="1828800"/>
            <a:ext cx="885528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5:52:11Z</dcterms:created>
  <dc:creator>Rodrigo Schoeller de Moraes</dc:creator>
  <dc:description/>
  <dc:language>en-US</dc:language>
  <cp:lastModifiedBy>Rodrigo  Schoeller de Moraes</cp:lastModifiedBy>
  <dcterms:modified xsi:type="dcterms:W3CDTF">2015-08-01T02:48:23Z</dcterms:modified>
  <cp:revision>19</cp:revision>
  <dc:subject/>
  <dc:title>Slide 1</dc:title>
</cp:coreProperties>
</file>